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Chalkboard SE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Chalkboard S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Chalkboard SE"/>
              </a:rPr>
              <a:t>Modules should be 3-7 minutes long </a:t>
            </a:r>
            <a:endParaRPr b="0" lang="en-US" sz="2400" spc="-1" strike="noStrike">
              <a:solidFill>
                <a:srgbClr val="572e2d"/>
              </a:solidFill>
              <a:latin typeface="Chalkboard S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Management Plan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Do a Data Management Plan?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Ruth Duer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National Snow and Ice Data Cente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5" name="Picture 5" descr="image.png"/>
          <p:cNvPicPr/>
          <p:nvPr/>
        </p:nvPicPr>
        <p:blipFill>
          <a:blip r:embed="rId2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image.png"/>
          <p:cNvPicPr/>
          <p:nvPr/>
        </p:nvPicPr>
        <p:blipFill>
          <a:blip r:embed="rId3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584280"/>
            <a:ext cx="98056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y funding agencies require data management plans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7640" y="2774520"/>
            <a:ext cx="1186200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52800" indent="-3528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SF now requires a two page data management plan submitted with every proposal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352800" indent="-3528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ASA Earth Sciences requires a data management plan for its Earth science missions, projects, and grants and cooperative agreements.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352800" indent="-3528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IH requires that projects with budgets greater than $500k/yr include a data sharing plan in their proposals. 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Michener, W.K., Brunt, J.W., Helly, J.J., Kirchner, T.B. and S. G. Stafford. 1997. “Nongeospatial metadata for the ecological sciences.” </a:t>
            </a:r>
            <a:r>
              <a:rPr b="0" i="1" lang="en-US" sz="3800" spc="-1" strike="noStrike">
                <a:solidFill>
                  <a:srgbClr val="000000"/>
                </a:solidFill>
                <a:latin typeface="Helvetica Light"/>
              </a:rPr>
              <a:t>Ecological Applications</a:t>
            </a: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 7(1):330-342.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l the modules under the Case for Data Stewardship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op three reasons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o make your research easier, more efficient, and less expensive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To enhance your reputation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Because many funding agencies require it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king Your Research Easier and Cheap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3357720"/>
            <a:ext cx="1186200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  <a:ea typeface="Arial"/>
              </a:rPr>
              <a:t>The 5 P</a:t>
            </a:r>
            <a:r>
              <a:rPr b="0" lang="ja-JP" sz="6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6800" spc="-1" strike="noStrike">
                <a:solidFill>
                  <a:srgbClr val="000000"/>
                </a:solidFill>
                <a:latin typeface="Arial"/>
                <a:ea typeface="Arial"/>
              </a:rPr>
              <a:t>s matter!</a:t>
            </a:r>
            <a:endParaRPr b="0" lang="en-US" sz="68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prior planning prevents poor performance)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9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96534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at?  You think it's cheap to recover data off a 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2" name="Picture 5" descr="InsertedImage-small.jpg"/>
          <p:cNvPicPr/>
          <p:nvPr/>
        </p:nvPicPr>
        <p:blipFill>
          <a:blip r:embed="rId2"/>
          <a:stretch/>
        </p:blipFill>
        <p:spPr>
          <a:xfrm>
            <a:off x="9380520" y="4014720"/>
            <a:ext cx="2656080" cy="119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nsertedImage.jpg"/>
          <p:cNvPicPr/>
          <p:nvPr/>
        </p:nvPicPr>
        <p:blipFill>
          <a:blip r:embed="rId3"/>
          <a:stretch/>
        </p:blipFill>
        <p:spPr>
          <a:xfrm>
            <a:off x="7684920" y="2236680"/>
            <a:ext cx="2540160" cy="177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nsertedImage.jpg"/>
          <p:cNvPicPr/>
          <p:nvPr/>
        </p:nvPicPr>
        <p:blipFill>
          <a:blip r:embed="rId4"/>
          <a:stretch/>
        </p:blipFill>
        <p:spPr>
          <a:xfrm>
            <a:off x="6251400" y="4851360"/>
            <a:ext cx="295920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26960" y="2754360"/>
            <a:ext cx="779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  <a:ea typeface="ＭＳ Ｐゴシック"/>
              </a:rPr>
              <a:t>Broken DVD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26960" y="3936960"/>
            <a:ext cx="660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  <a:ea typeface="ＭＳ Ｐゴシック"/>
              </a:rPr>
              <a:t>A burned up memory stick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26960" y="6070680"/>
            <a:ext cx="54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  <a:ea typeface="ＭＳ Ｐゴシック"/>
              </a:rPr>
              <a:t>A crashed hard drive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26960" y="4940280"/>
            <a:ext cx="472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1" marL="762120" indent="-38124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  <a:ea typeface="ＭＳ Ｐゴシック"/>
              </a:rPr>
              <a:t>A drowned laptop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9" name="Picture 12" descr="InsertedImage.gif"/>
          <p:cNvPicPr/>
          <p:nvPr/>
        </p:nvPicPr>
        <p:blipFill>
          <a:blip r:embed="rId5"/>
          <a:stretch/>
        </p:blipFill>
        <p:spPr>
          <a:xfrm>
            <a:off x="5956200" y="4727520"/>
            <a:ext cx="6508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king Your Research Easier and Cheap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4206960"/>
            <a:ext cx="1186164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  <a:ea typeface="Arial"/>
              </a:rPr>
              <a:t>Accidents do happen!</a:t>
            </a:r>
            <a:endParaRPr b="0" lang="en-US" sz="6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6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0184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n't you think it would be more efficient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7168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f you didn't have to remember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name of that file?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d the directory where you put it?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units those measurements were taken in?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ich sample site was which?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  <a:p>
            <a:pPr lvl="1" marL="803160" indent="-4222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tc.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1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king Your Research Easier and Cheap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4206960"/>
            <a:ext cx="1186164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  <a:ea typeface="Arial"/>
              </a:rPr>
              <a:t>Write it down!</a:t>
            </a:r>
            <a:endParaRPr b="0" lang="en-US" sz="6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041372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Light"/>
              </a:rPr>
              <a:t>Poor data practice results in loss of information 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1236600" y="2197080"/>
            <a:ext cx="10252440" cy="7223400"/>
            <a:chOff x="1236600" y="2197080"/>
            <a:chExt cx="10252440" cy="7223400"/>
          </a:xfrm>
        </p:grpSpPr>
        <p:grpSp>
          <p:nvGrpSpPr>
            <p:cNvPr id="90" name="Group 6"/>
            <p:cNvGrpSpPr/>
            <p:nvPr/>
          </p:nvGrpSpPr>
          <p:grpSpPr>
            <a:xfrm>
              <a:off x="1958760" y="2854800"/>
              <a:ext cx="9311760" cy="5939280"/>
              <a:chOff x="1958760" y="2854800"/>
              <a:chExt cx="9311760" cy="5939280"/>
            </a:xfrm>
          </p:grpSpPr>
          <p:sp>
            <p:nvSpPr>
              <p:cNvPr id="91" name="Line 7"/>
              <p:cNvSpPr/>
              <p:nvPr/>
            </p:nvSpPr>
            <p:spPr>
              <a:xfrm>
                <a:off x="1958760" y="2854800"/>
                <a:ext cx="11160" cy="59252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2" name="Line 8"/>
              <p:cNvSpPr/>
              <p:nvPr/>
            </p:nvSpPr>
            <p:spPr>
              <a:xfrm>
                <a:off x="1984320" y="8780040"/>
                <a:ext cx="9286200" cy="1404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3" name="AutoShape 9"/>
              <p:cNvSpPr/>
              <p:nvPr/>
            </p:nvSpPr>
            <p:spPr>
              <a:xfrm rot="10920000">
                <a:off x="2479320" y="3121560"/>
                <a:ext cx="4222800" cy="281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3" y="0"/>
                      <a:pt x="7" y="0"/>
                      <a:pt x="11" y="0"/>
                    </a:cubicBezTo>
                    <a:cubicBezTo>
                      <a:pt x="11934" y="0"/>
                      <a:pt x="21600" y="9584"/>
                      <a:pt x="21600" y="21408"/>
                    </a:cubicBezTo>
                    <a:cubicBezTo>
                      <a:pt x="21600" y="21472"/>
                      <a:pt x="21599" y="21535"/>
                      <a:pt x="21599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4" name="AutoShape 10"/>
              <p:cNvSpPr/>
              <p:nvPr/>
            </p:nvSpPr>
            <p:spPr>
              <a:xfrm rot="10920000">
                <a:off x="6601680" y="6051240"/>
                <a:ext cx="1815120" cy="1916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3514" y="4904"/>
                      <a:pt x="21586" y="12976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5" name="AutoShape 11"/>
              <p:cNvSpPr/>
              <p:nvPr/>
            </p:nvSpPr>
            <p:spPr>
              <a:xfrm>
                <a:off x="8390880" y="8005680"/>
                <a:ext cx="214308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1600"/>
                    </a:moveTo>
                    <a:cubicBezTo>
                      <a:pt x="9666" y="21588"/>
                      <a:pt x="0" y="11920"/>
                      <a:pt x="0" y="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 rot="10800000">
                <a:off x="5105880" y="5824080"/>
                <a:ext cx="543600" cy="294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2406" y="1577"/>
                      <a:pt x="21600" y="10770"/>
                      <a:pt x="21600" y="21600"/>
                    </a:cubicBezTo>
                  </a:path>
                </a:pathLst>
              </a:custGeom>
              <a:noFill/>
              <a:ln cap="rnd" w="5436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7" name="Line 13"/>
              <p:cNvSpPr/>
              <p:nvPr/>
            </p:nvSpPr>
            <p:spPr>
              <a:xfrm flipH="1">
                <a:off x="1958760" y="3033000"/>
                <a:ext cx="569520" cy="11160"/>
              </a:xfrm>
              <a:prstGeom prst="line">
                <a:avLst/>
              </a:prstGeom>
              <a:ln w="54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98" name="Rectangle 14"/>
            <p:cNvSpPr/>
            <p:nvPr/>
          </p:nvSpPr>
          <p:spPr>
            <a:xfrm rot="16200000">
              <a:off x="-940680" y="5477760"/>
              <a:ext cx="50025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Content</a:t>
              </a:r>
              <a:endParaRPr b="0" lang="en-US" sz="34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5995800" y="8748360"/>
              <a:ext cx="12805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34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3380040" y="2197080"/>
              <a:ext cx="3579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of publication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3889440" y="2995560"/>
              <a:ext cx="290340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 details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4790160" y="3857760"/>
              <a:ext cx="2865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 details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3" name="Rectangle 19"/>
            <p:cNvSpPr/>
            <p:nvPr/>
          </p:nvSpPr>
          <p:spPr>
            <a:xfrm>
              <a:off x="2301120" y="6239880"/>
              <a:ext cx="181548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ident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4" name="Rectangle 20"/>
            <p:cNvSpPr/>
            <p:nvPr/>
          </p:nvSpPr>
          <p:spPr>
            <a:xfrm>
              <a:off x="7607520" y="4935240"/>
              <a:ext cx="273924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ement or 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eer change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>
              <a:off x="9610200" y="7214040"/>
              <a:ext cx="1283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ath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6" name="Line 22"/>
            <p:cNvSpPr/>
            <p:nvPr/>
          </p:nvSpPr>
          <p:spPr>
            <a:xfrm flipV="1">
              <a:off x="2631960" y="2501640"/>
              <a:ext cx="8517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 flipV="1">
              <a:off x="2859480" y="3248640"/>
              <a:ext cx="105300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 flipV="1">
              <a:off x="4091040" y="4363200"/>
              <a:ext cx="725040" cy="6980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 flipV="1">
              <a:off x="6844680" y="5363280"/>
              <a:ext cx="736560" cy="5976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 flipV="1">
              <a:off x="8482320" y="7466760"/>
              <a:ext cx="1064520" cy="4824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 flipV="1">
              <a:off x="4154400" y="5961240"/>
              <a:ext cx="736560" cy="4795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12" name="Rectangle 28"/>
            <p:cNvSpPr/>
            <p:nvPr/>
          </p:nvSpPr>
          <p:spPr>
            <a:xfrm>
              <a:off x="8749800" y="8774280"/>
              <a:ext cx="27392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ichener et al. 1997)</a:t>
              </a:r>
              <a:endParaRPr b="0" lang="en-US" sz="1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4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58720" y="299880"/>
            <a:ext cx="4197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nhancing Your Reputation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2774520"/>
            <a:ext cx="1186200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74760" indent="-37476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loppy, unorganized and undocumented data is hard to share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374760" indent="-37476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does sloppy, unorganized, and not well documented data say about the rest of your work?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374760" indent="-37476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if you get hit by a bus? 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374760" indent="-37476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r data may well be your most important legacy!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 Duerr</cp:lastModifiedBy>
  <dcterms:modified xsi:type="dcterms:W3CDTF">2011-11-04T22:51:25Z</dcterms:modified>
  <cp:revision>2</cp:revision>
  <dc:subject/>
  <dc:title>Data Management Plans:  Why Do a Data Management Plan?</dc:title>
</cp:coreProperties>
</file>